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4308-3E07-4A8F-B4E4-531900EB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2453-F154-4FA1-A143-9D72808F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30CA-71FD-4429-8F64-5B9F8F58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36D1-C44A-47BB-B167-FBAE2C9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A367-339D-480C-9C7D-1E5B8A6B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BBF-A531-484F-86E6-C44C82A4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D402-8974-466F-AC2C-1660B69B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BD56-0786-40D1-AADF-E156E875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BEFF-3FD1-472C-A791-E74F53F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DEA-0A09-457C-AB3E-BF14D0E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F5E-82FB-4647-910C-8C370C2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C50B-2952-4AF1-8135-8EEF6424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21AC-D439-4A2B-BD86-063D2D5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9DA9-D477-4754-8AA8-6812432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7C6-7DFC-42DA-8DF0-F1CAA265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42A-CBBA-43B2-8F93-C629DABE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BDD6-CFCE-4B1F-B5ED-DF98CB7E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23B2-FC05-4038-857C-ADCFB5D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F5C8-43CF-4095-A7C9-4C6A40F2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4587-2830-420F-9DDC-E26A105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C887-7A2A-4963-B2DB-785451B0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25B8-79FD-47C5-B627-1243376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6CD9-E3DB-4C7B-AF56-ABBD833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ECDF-44EC-434E-8776-4572AAB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6A8B-C841-4187-A6E9-6E8BDC1F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586-38D3-478F-89D5-1AE8D9A5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39e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8ccb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add title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Arial"/>
              </a:rPr>
              <a:t>Click to add subtitle</a:t>
            </a: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82880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495d61"/>
              </a:gs>
              <a:gs pos="50000">
                <a:srgbClr val="9fcad3"/>
              </a:gs>
              <a:gs pos="100000">
                <a:srgbClr val="495d6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66688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3c4868"/>
              </a:gs>
              <a:gs pos="50000">
                <a:srgbClr val="839ee3"/>
              </a:gs>
              <a:gs pos="100000">
                <a:srgbClr val="3c48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505320"/>
            <a:ext cx="5410080" cy="53316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2f5e54"/>
              </a:gs>
              <a:gs pos="50000">
                <a:srgbClr val="68ccb7"/>
              </a:gs>
              <a:gs pos="100000">
                <a:srgbClr val="2f5e54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34340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706038"/>
              </a:gs>
              <a:gs pos="50000">
                <a:srgbClr val="f4d17a"/>
              </a:gs>
              <a:gs pos="100000">
                <a:srgbClr val="70603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f2f2f2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040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fcad3"/>
              </a:gs>
              <a:gs pos="100000">
                <a:srgbClr val="313f4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e385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8ccb7"/>
              </a:gs>
              <a:gs pos="100000">
                <a:srgbClr val="2f5e5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3472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800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6060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9ee3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c4868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4868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18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9400" y="29718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9718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540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2040" y="1477800"/>
            <a:ext cx="6437160" cy="1387800"/>
            <a:chOff x="1112040" y="1477800"/>
            <a:chExt cx="6437160" cy="1387800"/>
          </a:xfrm>
        </p:grpSpPr>
        <p:sp>
          <p:nvSpPr>
            <p:cNvPr id="136" name=""/>
            <p:cNvSpPr/>
            <p:nvPr/>
          </p:nvSpPr>
          <p:spPr>
            <a:xfrm rot="3418800">
              <a:off x="1322640" y="1702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360" y="1874520"/>
              <a:ext cx="931680" cy="131760"/>
              <a:chOff x="2286360" y="1874520"/>
              <a:chExt cx="931680" cy="1317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36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7564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7692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5288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rot="3418800">
              <a:off x="304380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007880" y="1874520"/>
              <a:ext cx="931680" cy="131760"/>
              <a:chOff x="4007880" y="1874520"/>
              <a:chExt cx="931680" cy="131760"/>
            </a:xfrm>
          </p:grpSpPr>
          <p:sp>
            <p:nvSpPr>
              <p:cNvPr id="144" name=""/>
              <p:cNvSpPr/>
              <p:nvPr/>
            </p:nvSpPr>
            <p:spPr>
              <a:xfrm>
                <a:off x="400788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9716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9844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7440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418800">
              <a:off x="469332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29040" y="1874520"/>
              <a:ext cx="1218240" cy="131760"/>
              <a:chOff x="5729040" y="1874520"/>
              <a:chExt cx="1218240" cy="131760"/>
            </a:xfrm>
          </p:grpSpPr>
          <p:sp>
            <p:nvSpPr>
              <p:cNvPr id="150" name=""/>
              <p:cNvSpPr/>
              <p:nvPr/>
            </p:nvSpPr>
            <p:spPr>
              <a:xfrm>
                <a:off x="5729040" y="18745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45680" y="1875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62600" y="18766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61960" y="19177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3418800">
              <a:off x="641448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4252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9500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9520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8040" y="1995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900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148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396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6800" y="3276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54080" y="1328760"/>
          <a:ext cx="7196040" cy="4098960"/>
        </p:xfrm>
        <a:graphic>
          <a:graphicData uri="http://schemas.openxmlformats.org/drawingml/2006/table">
            <a:tbl>
              <a:tblPr/>
              <a:tblGrid>
                <a:gridCol w="1438200"/>
                <a:gridCol w="1150920"/>
                <a:gridCol w="1150920"/>
                <a:gridCol w="1150920"/>
                <a:gridCol w="1154160"/>
                <a:gridCol w="11509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7720" y="41450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1461960" y="203148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601600">
            <a:off x="151740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382400" y="188748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1434960" y="18554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0602200">
            <a:off x="1438200" y="186912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1440000" y="18676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rot="20602200">
            <a:off x="1423800" y="187452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1600">
            <a:off x="4506480" y="319104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4400280" y="293796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9200" y="1189080"/>
            <a:ext cx="6918840" cy="4357080"/>
            <a:chOff x="529200" y="1189080"/>
            <a:chExt cx="6918840" cy="4357080"/>
          </a:xfrm>
        </p:grpSpPr>
        <p:sp>
          <p:nvSpPr>
            <p:cNvPr id="177" name=""/>
            <p:cNvSpPr/>
            <p:nvPr/>
          </p:nvSpPr>
          <p:spPr>
            <a:xfrm rot="20712600">
              <a:off x="781920" y="1960920"/>
              <a:ext cx="641340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712600">
              <a:off x="4186440" y="3158640"/>
              <a:ext cx="137772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712600">
              <a:off x="5562720" y="3327480"/>
              <a:ext cx="1579320" cy="9788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03680" y="891720"/>
            <a:ext cx="6957360" cy="4863240"/>
            <a:chOff x="1003680" y="891720"/>
            <a:chExt cx="6957360" cy="4863240"/>
          </a:xfrm>
        </p:grpSpPr>
        <p:sp>
          <p:nvSpPr>
            <p:cNvPr id="181" name=""/>
            <p:cNvSpPr/>
            <p:nvPr/>
          </p:nvSpPr>
          <p:spPr>
            <a:xfrm rot="20601600">
              <a:off x="6073560" y="32299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539200">
              <a:off x="1323720" y="177768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601600">
              <a:off x="4757760" y="306072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rot="20601600">
            <a:off x="2979720" y="2584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01600">
            <a:off x="3056040" y="281916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080" y="2405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5880" y="1947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7080" y="270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8480" y="4005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10960" y="4233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2400" y="3395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966960" y="3797280"/>
            <a:ext cx="1512720" cy="1511280"/>
            <a:chOff x="966960" y="3797280"/>
            <a:chExt cx="1512720" cy="1511280"/>
          </a:xfrm>
        </p:grpSpPr>
        <p:sp>
          <p:nvSpPr>
            <p:cNvPr id="193" name="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7b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f4c6d"/>
                </a:gs>
                <a:gs pos="100000">
                  <a:srgbClr val="839e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31840" y="39618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c4868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2280" y="20858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cece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14840" y="3809880"/>
            <a:ext cx="1513080" cy="1511280"/>
            <a:chOff x="4614840" y="3809880"/>
            <a:chExt cx="1513080" cy="1511280"/>
          </a:xfrm>
        </p:grpSpPr>
        <p:sp>
          <p:nvSpPr>
            <p:cNvPr id="201" name="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ca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c7df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56c71"/>
                </a:gs>
                <a:gs pos="50000">
                  <a:srgbClr val="9fcad3"/>
                </a:gs>
                <a:gs pos="100000">
                  <a:srgbClr val="556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d6166"/>
                </a:gs>
                <a:gs pos="100000">
                  <a:srgbClr val="9fca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9720" y="39744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95d61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88280" y="3809880"/>
            <a:ext cx="1512720" cy="1511280"/>
            <a:chOff x="6488280" y="3809880"/>
            <a:chExt cx="1512720" cy="1511280"/>
          </a:xfrm>
        </p:grpSpPr>
        <p:sp>
          <p:nvSpPr>
            <p:cNvPr id="207" name="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4d17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100000">
                  <a:srgbClr val="f6df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837041"/>
                </a:gs>
                <a:gs pos="50000">
                  <a:srgbClr val="f4d17a"/>
                </a:gs>
                <a:gs pos="100000">
                  <a:srgbClr val="8370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6653b"/>
                </a:gs>
                <a:gs pos="100000">
                  <a:srgbClr val="f4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3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706038"/>
                </a:gs>
                <a:gs pos="100000">
                  <a:srgbClr val="f4d1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6280" y="3809880"/>
            <a:ext cx="1512720" cy="1511280"/>
            <a:chOff x="2816280" y="3809880"/>
            <a:chExt cx="1512720" cy="1511280"/>
          </a:xfrm>
        </p:grpSpPr>
        <p:sp>
          <p:nvSpPr>
            <p:cNvPr id="213" name="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5d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26258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1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f5e54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033640" y="1447920"/>
            <a:ext cx="4876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489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65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77720" y="4433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164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07:00Z</dcterms:created>
  <dc:creator>Bonnie Ritchey</dc:creator>
  <dc:description/>
  <dc:language>en-US</dc:language>
  <cp:lastModifiedBy>Bonnie Ritchey</cp:lastModifiedBy>
  <dcterms:modified xsi:type="dcterms:W3CDTF">2004-10-24T17:08:16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